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0.png" ContentType="image/png"/>
  <Override PartName="/ppt/media/image30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Owner" initials="O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<Relationship Id="rId40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2-05-02T19:00:18.606000000" idx="1">
    <p:pos x="5157" y="1214"/>
    <p:text>p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C816-3ED8-46F1-9221-51033C40C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31D8-8507-49FB-883B-12A6D07E0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2D1E-F7C2-494B-8C80-5B6993AD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784E-2E17-4FDA-B832-26397D19E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F239-DB9C-4C71-B2B3-9BE4EE77A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F0EE-9FA9-41A5-96CC-35B5B121D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934E-C6E6-459D-8111-BE543356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E133-C672-45C9-9C5F-143E4E485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A8A8-6B0E-4A1F-B5E5-7D244262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1A942-FBB2-4203-B785-43ABF033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E425E-1034-4402-9B81-19CFFF484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88D1-68C7-415A-AD0C-09463D27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388DF-8DBA-4C05-A828-81C459C2F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D5CB7-75FA-437B-AC35-57E1BD9A6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CF40-E9D3-4A29-9250-3D710A7D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2AC72-129E-44A8-B000-B5E799A16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2ED1F-BD72-450F-A6AA-9F20C589F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9F755-0FBE-4A6F-A3A2-508A71BE1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2F136-493A-4CEC-9E75-5524FCAC5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C96FD-CA80-46F4-B334-91D4DD2A0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79E01-0B04-4858-A675-0B88E3BA3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F68F1E-2477-4F6E-97BF-E137CC119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71A8-5DEF-46FF-9D61-E466CC58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B5F51-65E6-4D8F-8EE9-371E649D9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0C20CA-3584-42C7-BF83-9AC0FE0FE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11941-0351-491B-8E51-438791E99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7C24C-4FD4-4E23-BC55-B723F8FD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6699F-E025-4656-B072-FECC59493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D3D7E2-9C58-4AB9-9838-309273C0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70704-EEE0-4FA4-B12F-3C8E70ED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A977F-2162-4FE2-8CAA-CE2823465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57E23-2FD1-4D0A-8ABB-E70DEA0B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D0BE46-D535-4B59-B0CE-C82187083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FCEE-D980-4CFF-AF22-60D8793F2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D049B1-1113-40B6-A3EA-C972F19F7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0CCA6-91DD-469C-81E7-E256DFAA2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1981D-2955-4E65-8860-1FC915AF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C225FC-6694-4B6E-80E9-0AD4CA97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F22F5-D1D8-4238-A85E-321CD55E2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4D22C7-7DBD-42A3-BADA-655E8796E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D0917-B4F9-4B6D-BE28-18743E0C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7BA22-7211-4085-A810-7000E7F2D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39BB86-1F61-49E0-A83C-9615B447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D59A1B-AD0B-46B3-B3D6-C4820D9A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E7B0-DEB3-4779-A0E8-53597E43D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BA5C9-2AAB-46ED-8FEC-2F23AB79D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DE09A-87E0-452F-BE59-6BFF75940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4C591D-73E5-4C0F-BAE8-9D4706EFA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1C677-B549-4AF4-AF97-D2F3F86C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99C3C1-DEDF-4152-85E6-7668E8B7B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118A8-D3F0-40BC-B31B-2B180882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C5EF6-293E-4075-B0E0-4D3AEB4EF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69284-EE68-4808-81B9-6FBE3FA9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E401C0-FD44-4A0C-A17F-996A22C6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52057F-57C2-4D9E-8E44-72D20D7C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860B-0782-4698-B236-15A8DFF4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28475-CCCD-4390-B12C-174B46613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4360A-45ED-43D0-849F-704643C93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D6B26-8536-48A0-80A2-1435817AE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2AB33-FDA2-43A7-985A-830D7BEB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A538F5-AF40-4407-A0F6-DBE580ABC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AD9653-273E-411A-959C-36B22795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7DAFE-7F08-49A0-B647-3E28CADD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81FA3-F73C-4C65-8904-8014FC102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60146-E719-4A45-AAB0-BA4AD762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6DF94-D3D9-4489-AAFD-6B37C0096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AA6-C096-4B13-9D3E-6151BAD02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E79FC4-9E53-4B35-BD87-1A7A0B7AA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6A23A1-3B20-4E4E-9E87-EBA4A07CD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D59646-BCD9-4536-966D-B4923B8A8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0CEDEE-81CB-42A7-A267-0C6858A47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38D856-C5C2-486D-A9D7-CD54DB8B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CB8821-55A4-47D1-A0B8-77BAF049A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9D598-C302-4D4C-ABC6-4D642DAB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18C8E-01FA-48CE-8781-B3AA40762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962D0A-FE81-4717-8813-D1E24D09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116679-69C2-45DB-9934-28668A4D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CF23-6FFB-4B5F-A585-F034A951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151C6-A159-4509-81F8-0F8C348AA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D86F47-9689-45FB-9D5C-F892801E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BD08A3-65D9-411A-BF5C-0C60FE258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849B2F-15CE-41D0-9536-70DF3422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C040F6-82F9-476D-9BED-2D726A6D9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F23-E259-489B-8AC5-3BD410008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3D491-FDFF-40BB-A207-BAEE0CDBC5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4500"/>
              </a:gs>
              <a:gs pos="100000">
                <a:srgbClr val="ff9f6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0AE3-EE77-459D-9AD1-A2E4E85383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C02B3-C729-4AAB-AD15-A41B675D2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4500"/>
              </a:gs>
              <a:gs pos="100000">
                <a:srgbClr val="ff9f6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6A6C0-F951-4D0B-A176-6E55C71E385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AA89-DD2D-4EDC-825D-5E66D331E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EAC0-51AD-4804-B516-13B69224F181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B2FFF-A88B-4E36-9CCF-255C390A1EED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" Target="slide22.xml"/><Relationship Id="rId18" Type="http://schemas.openxmlformats.org/officeDocument/2006/relationships/slide" Target="slide23.xml"/><Relationship Id="rId19" Type="http://schemas.openxmlformats.org/officeDocument/2006/relationships/slide" Target="slide24.xml"/><Relationship Id="rId20" Type="http://schemas.openxmlformats.org/officeDocument/2006/relationships/slide" Target="slide25.xml"/><Relationship Id="rId21" Type="http://schemas.openxmlformats.org/officeDocument/2006/relationships/slide" Target="slide26.xml"/><Relationship Id="rId22" Type="http://schemas.openxmlformats.org/officeDocument/2006/relationships/slide" Target="slide27.xml"/><Relationship Id="rId2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1630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peinarse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54960" cy="1395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Nos levantamos temprano.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5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Ella nadó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Yo escribí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9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Di haz ve pon sal sé ten ven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22068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2514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Century Gothic"/>
              </a:rPr>
              <a:t>He/she form &amp;….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1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229600" cy="22064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Yo –o opp &amp;….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26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2666880"/>
            <a:ext cx="822960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entury Gothic"/>
              </a:rPr>
              <a:t>NO des estés vayas sepas seas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686800" cy="1865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"/>
          <p:cNvGraphicFramePr/>
          <p:nvPr/>
        </p:nvGraphicFramePr>
        <p:xfrm>
          <a:off x="723960" y="2286000"/>
          <a:ext cx="7315200" cy="301788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Me lavo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Nos lavamos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Te lavas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Os laváis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 lava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e lavan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350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31840" y="115920"/>
            <a:ext cx="8686800" cy="24512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2362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An appetizer-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UNA PORCIÓN PEQUEÑA-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jamón</a:t>
            </a:r>
            <a:r>
              <a:rPr b="0" lang="es-ES_tradnl" sz="4800" spc="-1" strike="noStrike">
                <a:solidFill>
                  <a:srgbClr val="ffffff"/>
                </a:solidFill>
                <a:latin typeface="Century Gothic"/>
              </a:rPr>
              <a:t>, chorizo, tortilla española, aceitunas, calamares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7200" y="109440"/>
            <a:ext cx="8229600" cy="15541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teriales: Una hoja de paper / un lápiz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ay </a:t>
            </a:r>
            <a:r>
              <a:rPr b="0" lang="en-US" sz="2600" spc="-1" strike="noStrike">
                <a:solidFill>
                  <a:srgbClr val="7598d9"/>
                </a:solidFill>
                <a:latin typeface="Century Gothic"/>
              </a:rPr>
              <a:t>dos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equipo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first person on </a:t>
            </a:r>
            <a:r>
              <a:rPr b="0" lang="en-US" sz="2600" spc="-1" strike="noStrike">
                <a:solidFill>
                  <a:srgbClr val="fe8637"/>
                </a:solidFill>
                <a:latin typeface="Century Gothic"/>
              </a:rPr>
              <a:t>team one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ooses a number for the opposite team in order to reveal the question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f you are on </a:t>
            </a:r>
            <a:r>
              <a:rPr b="0" lang="en-US" sz="2600" spc="-1" strike="noStrike">
                <a:solidFill>
                  <a:srgbClr val="ffe636"/>
                </a:solidFill>
                <a:latin typeface="Century Gothic"/>
              </a:rPr>
              <a:t>team two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and know the answer, or want to “BLUFF,” write down your answer on your paper(or pretend to) and stand up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first person on </a:t>
            </a:r>
            <a:r>
              <a:rPr b="0" lang="en-US" sz="2600" spc="-1" strike="noStrike">
                <a:solidFill>
                  <a:srgbClr val="fe8637"/>
                </a:solidFill>
                <a:latin typeface="Century Gothic"/>
              </a:rPr>
              <a:t>team one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ill then select a student, from those who are standing, to answer.  If he/she is correct, then </a:t>
            </a:r>
            <a:r>
              <a:rPr b="0" lang="en-US" sz="2600" spc="-1" strike="noStrike">
                <a:solidFill>
                  <a:srgbClr val="ffe636"/>
                </a:solidFill>
                <a:latin typeface="Century Gothic"/>
              </a:rPr>
              <a:t>team two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receives as many points as people standing. If incorrect, then </a:t>
            </a:r>
            <a:r>
              <a:rPr b="0" lang="en-US" sz="2600" spc="-1" strike="noStrike">
                <a:solidFill>
                  <a:srgbClr val="fe8637"/>
                </a:solidFill>
                <a:latin typeface="Century Gothic"/>
              </a:rPr>
              <a:t>team one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receives the point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PEAT the same process but with the other tea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461440" cy="1792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04920" y="2666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olvidar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528040" cy="2206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VERB CHOIC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Century Gothic"/>
              </a:rPr>
              <a:t>quitar – barrer – ordenar- planchar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Mi hermano ______________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la ropa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Rectangle 3" descr=""/>
          <p:cNvPicPr/>
          <p:nvPr/>
        </p:nvPicPr>
        <p:blipFill>
          <a:blip r:embed="rId2"/>
          <a:stretch/>
        </p:blipFill>
        <p:spPr>
          <a:xfrm>
            <a:off x="4133880" y="3786120"/>
            <a:ext cx="4151160" cy="15717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C:\Users\Owner\AppData\Local\Microsoft\Windows\Temporary Internet Files\Content.IE5\465JHOFG\MM900236492[1].gif"/>
          <p:cNvPicPr/>
          <p:nvPr/>
        </p:nvPicPr>
        <p:blipFill>
          <a:blip r:embed="rId3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-85680"/>
            <a:ext cx="8528040" cy="2206440"/>
          </a:xfrm>
          <a:prstGeom prst="rect">
            <a:avLst/>
          </a:prstGeom>
          <a:ln w="0">
            <a:noFill/>
          </a:ln>
        </p:spPr>
      </p:pic>
      <p:sp>
        <p:nvSpPr>
          <p:cNvPr id="362" name="Content Placeholder 2"/>
          <p:cNvSpPr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VERB CHOIC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apagar – sacar – empezar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  <a:ea typeface="Arial"/>
              </a:rPr>
              <a:t>Yo ________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  <a:ea typeface="Arial"/>
              </a:rPr>
              <a:t>Las luces 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Rectangle 5" descr=""/>
          <p:cNvPicPr/>
          <p:nvPr/>
        </p:nvPicPr>
        <p:blipFill>
          <a:blip r:embed="rId2"/>
          <a:stretch/>
        </p:blipFill>
        <p:spPr>
          <a:xfrm>
            <a:off x="231840" y="3071880"/>
            <a:ext cx="4876560" cy="127476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C:\Users\Owner\AppData\Local\Microsoft\Windows\Temporary Internet Files\Content.IE5\465JHOFG\MM900236492[1].gif"/>
          <p:cNvPicPr/>
          <p:nvPr/>
        </p:nvPicPr>
        <p:blipFill>
          <a:blip r:embed="rId3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LA MANTEQUILLA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0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0" y="774720"/>
            <a:ext cx="9144000" cy="18097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762120" y="31237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SERVIR, PEDIR, COMPETIR, 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Seguir, repetir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0" y="384120"/>
            <a:ext cx="8686800" cy="2206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80880" y="2895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Flamenco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3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8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08080"/>
            <a:ext cx="8296200" cy="162072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Deber &amp; infinitive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6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entury Gothic"/>
              </a:rPr>
              <a:t>anteayer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9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762120" y="1981080"/>
            <a:ext cx="594360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Las zanahorias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2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-2286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entury Gothic"/>
              </a:rPr>
              <a:t>quinientos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5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371600" y="787320"/>
          <a:ext cx="6629400" cy="5410440"/>
        </p:xfrm>
        <a:graphic>
          <a:graphicData uri="http://schemas.openxmlformats.org/drawingml/2006/table">
            <a:tbl>
              <a:tblPr/>
              <a:tblGrid>
                <a:gridCol w="1325520"/>
                <a:gridCol w="1325520"/>
                <a:gridCol w="1327320"/>
                <a:gridCol w="1325520"/>
                <a:gridCol w="132552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" action="ppaction://hlinksldjump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2" action="ppaction://hlinksldjump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3" action="ppaction://hlinksldjump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4" action="ppaction://hlinksldjump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5" action="ppaction://hlinksldjump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6" action="ppaction://hlinksldjump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7" action="ppaction://hlinksldjump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8" action="ppaction://hlinksldjump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9" action="ppaction://hlinksldjump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0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1" action="ppaction://hlinksldjump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2" action="ppaction://hlinksldjump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3" action="ppaction://hlinksldjump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4" action="ppaction://hlinksldjump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5" action="ppaction://hlinksldjump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6" action="ppaction://hlinksldjump"/>
                        </a:rPr>
                        <a:t>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7" action="ppaction://hlinksldjump"/>
                        </a:rPr>
                        <a:t>1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8" action="ppaction://hlinksldjump"/>
                        </a:rPr>
                        <a:t>1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9" action="ppaction://hlinksldjump"/>
                        </a:rPr>
                        <a:t>1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20" action="ppaction://hlinksldjump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21" action="ppaction://hlinksldjump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22" action="ppaction://hlinksldjump"/>
                        </a:rPr>
                        <a:t>2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94472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2895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entury Gothic"/>
              </a:rPr>
              <a:t>Roman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8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entury Gothic"/>
              </a:rPr>
              <a:t>Me te le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entury Gothic"/>
              </a:rPr>
              <a:t>Nos os les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195120"/>
            <a:ext cx="8229600" cy="16272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Gusta/gustan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Sing. v. pl noun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24444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algo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é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amo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aste          astei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ó               aron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73080"/>
            <a:ext cx="8381880" cy="220644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2514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ME DUCHÉ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-133200"/>
            <a:ext cx="8229600" cy="23223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2362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ffff"/>
                </a:solidFill>
                <a:latin typeface="Century Gothic"/>
              </a:rPr>
              <a:t>fui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6:52:39Z</dcterms:created>
  <dc:creator>Heather Heffernen</dc:creator>
  <dc:description/>
  <dc:language>en-US</dc:language>
  <cp:lastModifiedBy>Prine, Stephanie</cp:lastModifiedBy>
  <dcterms:modified xsi:type="dcterms:W3CDTF">2014-01-10T17:01:29Z</dcterms:modified>
  <cp:revision>42</cp:revision>
  <dc:subject/>
  <dc:title>BLUFF</dc:title>
</cp:coreProperties>
</file>